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30D-CD08-4686-8DFE-EB959C01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BAC-DD40-49D3-AE9C-0B3CC8A5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1F3-C137-48C8-846B-56579979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62B-F3B4-4ED1-93DD-5BA42B6B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D3A-C797-4F3D-8031-43C1AAA1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2ED-168A-4AA9-8383-596EBFE3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215-F217-46FA-8C2F-B0B12C15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B63-DFBF-4C38-942C-3FB4CB71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479-051C-431C-A7DB-209EC89E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7F4-C619-455D-9954-F159D071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2E8-FDE5-42EA-A13D-C65FA6AC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5C7-9157-4C43-B04F-9F5CFA9A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CC6A-F394-4E92-B051-4E65B7686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914040"/>
            <a:ext cx="84600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Sea Shanti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260440" y="2286000"/>
            <a:ext cx="5715000" cy="3835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381400" y="6197760"/>
            <a:ext cx="53164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pper ships were very fast, and were used to haul cargo across the atlantic oce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Haul Away Joe.mp3" descr=""/>
          <p:cNvPicPr/>
          <p:nvPr/>
        </p:nvPicPr>
        <p:blipFill>
          <a:blip r:embed="rId2"/>
          <a:stretch/>
        </p:blipFill>
        <p:spPr>
          <a:xfrm>
            <a:off x="43164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38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320" y="5994000"/>
            <a:ext cx="9658440" cy="14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apstan was used to raise the anchor, which was much too heavy for a person to pull up by h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641680" y="1117440"/>
            <a:ext cx="4724280" cy="4229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5327640" y="812880"/>
            <a:ext cx="47451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agine these men singing a capstan shanty to walk in ti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anty Anno.mp3" descr=""/>
          <p:cNvPicPr/>
          <p:nvPr/>
        </p:nvPicPr>
        <p:blipFill>
          <a:blip r:embed="rId2"/>
          <a:stretch/>
        </p:blipFill>
        <p:spPr>
          <a:xfrm>
            <a:off x="43164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823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320" y="5587920"/>
            <a:ext cx="96584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halyards had to be hauled up the mast with ropes and human strength! Halyard shanties repeated a key word at regular intervals which signaled the men to pull when singing the wor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15920" y="304920"/>
            <a:ext cx="8035920" cy="5130720"/>
          </a:xfrm>
          <a:prstGeom prst="rect">
            <a:avLst/>
          </a:prstGeom>
          <a:ln w="0">
            <a:noFill/>
          </a:ln>
        </p:spPr>
      </p:pic>
      <p:pic>
        <p:nvPicPr>
          <p:cNvPr id="51" name="Blow the Man Down.mp3" descr=""/>
          <p:cNvPicPr/>
          <p:nvPr/>
        </p:nvPicPr>
        <p:blipFill>
          <a:blip r:embed="rId2"/>
          <a:stretch/>
        </p:blipFill>
        <p:spPr>
          <a:xfrm>
            <a:off x="43164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893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930320" y="101520"/>
            <a:ext cx="6113520" cy="749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rofile</cp:lastModifiedBy>
  <dcterms:modified xsi:type="dcterms:W3CDTF">2010-08-10T21:56:33Z</dcterms:modified>
  <cp:revision>3</cp:revision>
  <dc:subject/>
  <dc:title>PowerPoint Presentation</dc:title>
</cp:coreProperties>
</file>